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0449-6448-4F57-9CF9-2B5D77C4D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4319-9BF9-4D33-86E8-7B4784692D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49D0-43C1-4913-9016-1161BCA434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67EA-1DED-431E-BCD3-7446BDD114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349E-3E34-4B7E-8A00-C05347E9F5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C14D-179E-4B22-ADE7-8D0D6BE3A7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6DE4-4E34-43A6-A77C-696919A837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1931-A49D-4329-9C09-D1CA954F59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C48E-5CCD-4635-9986-F3B8F27C9C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4F45-46D2-42DD-A058-3D61A33F47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2F06-D0B6-419B-BA71-A970DEF84E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BBA4-D684-46FF-A475-B270824534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840A-DFD4-4846-B60F-6130A86C61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2D3C-0457-47BA-B658-7D9023BBAD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A87F-752B-412D-B64F-676FE0DDED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5229-E93C-4E60-BED1-CBBC96D194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28AB-6B30-4902-AC39-5191161AB4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30AE-C77A-49B4-B72A-E05D50639A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5C81-96E3-4E4A-BD90-66D6EA68EB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CFBB-E079-4CD6-B8D3-2836B57F42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0BB5-297A-46CD-90A6-F00A0DBEF6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9C53-0180-4095-A3E2-9DEEDF2AAA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6DCE-5A5A-4A74-91BF-C3E94A2FBD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4362-269F-4CEB-8BE0-45EB09930C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E795-D5C8-4EBA-BF66-A96832DA5D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B7BF-544B-4D70-9768-44C31A4E18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33FE-4A60-4805-A3F7-BC53B39FF5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8F85-230C-4E54-B694-6E2B09BE4D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2E05-66F8-486B-B1BC-BCB9DF874A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C516-45B2-476A-AAF4-22C1F25B8F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E9B7-7E2B-4C9C-8256-8DD1FE6FB8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649B-45E7-40D1-AC09-328829DAB1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EFF5-37EF-494E-A593-7F216993D7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0E61-3E2E-4412-BC3A-D9513428F5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84F9-303D-4E19-AB45-601699CE3B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076D-DEBD-4276-910C-F9D0AF91BA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611E-8FAA-4593-8844-9DAAA8EDCB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01C1-24BE-40C8-9D49-E8C32B7401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322A-6B7C-48CD-B433-E4EB75CEF9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D33-C196-4037-923E-E59C36C3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FF5-A233-41A8-BD3E-492FC6B0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0C74-CC8E-4954-A6AB-B309E5AA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427-254D-4A91-B567-57728DC1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F94-D57F-4BB8-BC2C-B49424B5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35E-4BC1-4700-86E6-ECF30183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FD8-ED51-4D73-880B-0D926E40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F191-8A96-4AB2-ACDC-72ADA956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B8F-1B18-44FA-A720-9E4D645F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F9D-124A-4DEF-9A4C-39E88049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2B2-6298-4498-AEE2-9F7BB7FB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B4A-4CFD-4817-BAA5-B383AEEF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5196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7CAE-1D0A-4BC8-B88A-E8DF7B8DC967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" name="Picture 4" descr="Photo 20"/>
          <p:cNvPicPr/>
          <p:nvPr/>
        </p:nvPicPr>
        <p:blipFill>
          <a:blip r:embed="rId2"/>
          <a:stretch/>
        </p:blipFill>
        <p:spPr>
          <a:xfrm>
            <a:off x="1143000" y="16002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Photo 21"/>
          <p:cNvPicPr/>
          <p:nvPr/>
        </p:nvPicPr>
        <p:blipFill>
          <a:blip r:embed="rId3"/>
          <a:stretch/>
        </p:blipFill>
        <p:spPr>
          <a:xfrm>
            <a:off x="4952880" y="160020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Photo 22"/>
          <p:cNvPicPr/>
          <p:nvPr/>
        </p:nvPicPr>
        <p:blipFill>
          <a:blip r:embed="rId4"/>
          <a:stretch/>
        </p:blipFill>
        <p:spPr>
          <a:xfrm>
            <a:off x="2971800" y="3581280"/>
            <a:ext cx="28702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mm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STS- Whenever you see lists containing 3 or more items of anything in a sentence, you must place a comma between each item.  Insert commas where needed in the following sentenc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Paul Mark Brett and Derek prepared served and ate some food that was delicious and healthy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mas- Adjectives and Introductio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69343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JECTIVES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f you see 2 or more adjectives before a noun, you must place a comma between the adjective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 beautiful young reindeer is de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3352680" y="3538440"/>
            <a:ext cx="31244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S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 comma should follow any phrase or word that introduces a sentences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s: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In this course, students learn how to master the ACT.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Eventually, Jennifer scored a 36 on the ACT English Tes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as- Removable Phra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movable Phrases-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Commas should surround a non-essential, modifying phrase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y dad,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who is over 65 years old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, is retir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f you remove who is over 65 years old, it does NOT impact the central meaning of the sentence.  The phrase provides additional information, but it is NOT essential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as- Essential Modifying Phra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as should NOT surround an essential modifying phras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ople </a:t>
            </a:r>
            <a:r>
              <a:rPr b="1" lang="en-US" sz="2800" spc="-1" strike="noStrike">
                <a:solidFill>
                  <a:srgbClr val="99090e"/>
                </a:solidFill>
                <a:latin typeface="Verdana"/>
              </a:rPr>
              <a:t>who are over 65 years ol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re often retir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 this case, if you remove who are over 65 years old, you would be left with a sentence that has a much different meani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CLAUS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DEPENDENT CLAUSE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 complete thought that contains at least a subject and a ver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s of Independent claus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Verdana"/>
              </a:rPr>
              <a:t>The dog at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Verdana"/>
              </a:rPr>
              <a:t>Joe failed the assignm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Verdana"/>
              </a:rPr>
              <a:t>Sinclair loves wooden bon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5867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clause that </a:t>
            </a: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makes sens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by itself is an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independent clau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clause that </a:t>
            </a: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does not make sens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by itself is a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dependent clau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complex sentence contains an independent and dependent clau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90360" y="1219320"/>
            <a:ext cx="69339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99ff33"/>
                </a:solidFill>
                <a:uFillTx/>
                <a:latin typeface="Verdana"/>
              </a:rPr>
              <a:t>Independent clause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fffff"/>
                </a:solidFill>
                <a:uFillTx/>
                <a:latin typeface="Verdana"/>
              </a:rPr>
              <a:t>Native Americans lived on the island</a:t>
            </a: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3500" spc="-1" strike="noStrike">
                <a:solidFill>
                  <a:srgbClr val="ffffff"/>
                </a:solidFill>
                <a:latin typeface="Verdana"/>
              </a:rPr>
              <a:t>until they were attacked.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66ffff"/>
                </a:solidFill>
                <a:latin typeface="Verdana"/>
              </a:rPr>
              <a:t>Dependent clause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2362320" y="1828800"/>
            <a:ext cx="190476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4038480" y="4191120"/>
            <a:ext cx="106704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Claus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PENDENT CLAUSES-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 incomplete thought composed of at least a subject and a verb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a72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726"/>
                </a:solidFill>
                <a:latin typeface="Verdana"/>
              </a:rPr>
              <a:t>Although we studied for seventeen hours straigh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a72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726"/>
                </a:solidFill>
                <a:latin typeface="Verdana"/>
              </a:rPr>
              <a:t>When you look in the cabinet beneath the microwav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a72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726"/>
                </a:solidFill>
                <a:latin typeface="Verdana"/>
              </a:rPr>
              <a:t>Because he was a fabulous musicia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a72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726"/>
                </a:solidFill>
                <a:latin typeface="Verdana"/>
              </a:rPr>
              <a:t>If you finish your homewor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rite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or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for independent or dependent clau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 if you live on an island______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  the tides affect your life______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  the water level rises_____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  when the tide comes in_____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.  much of the beach disappears under water_____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.  until the tide goes out_____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CT English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048120" y="2133720"/>
            <a:ext cx="3305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67820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Colons (; &amp; :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1430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micolons and colons are often used as incorrect answers on the English Test, so you must understand how to use them properl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MICOLONS (;) can be used to replace a period when 2 independent clauses are closely relate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You don’t study the ACT because it’s fun.  You study the ACT because you want to go to college.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OR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You don’t study the ACT because it’s fun; you study the ACT because you want to go to college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oth versions are correct.  When you see a semicolon, make sure it separates 2 independent clauses; otherwise, it is incorrec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lons (: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LONS are generally used to introduce a lis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We ate a magnificent dinner</a:t>
            </a:r>
            <a:r>
              <a:rPr b="0" i="1" lang="en-US" sz="2800" spc="-1" strike="noStrike">
                <a:solidFill>
                  <a:srgbClr val="99090e"/>
                </a:solidFill>
                <a:latin typeface="Verdana"/>
              </a:rPr>
              <a:t>: lobster, shrimp, steak, and rib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p- Make sure that you DO NOT confuse the colon with the semicolon as they are obviously used for very different purposes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t’s vs. 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2160" y="2405160"/>
            <a:ext cx="618624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It’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abbreviation of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it i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the possessive form of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nt: Plug in </a:t>
            </a:r>
            <a:r>
              <a:rPr b="0" i="1" lang="en-US" sz="2800" spc="-1" strike="noStrike">
                <a:solidFill>
                  <a:srgbClr val="ff7a2c"/>
                </a:solidFill>
                <a:latin typeface="Verdana"/>
              </a:rPr>
              <a:t>it i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see if it makes sens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’re vs. their vs. t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y’r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(abbreviation for </a:t>
            </a:r>
            <a:r>
              <a:rPr b="1" lang="en-US" sz="2400" spc="-1" strike="noStrike">
                <a:solidFill>
                  <a:srgbClr val="99090e"/>
                </a:solidFill>
                <a:latin typeface="Verdana"/>
              </a:rPr>
              <a:t>they are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i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(the possessive form of</a:t>
            </a:r>
            <a:r>
              <a:rPr b="1" lang="en-US" sz="2400" spc="-1" strike="noStrike">
                <a:solidFill>
                  <a:srgbClr val="99090e"/>
                </a:solidFill>
                <a:latin typeface="Verdana"/>
              </a:rPr>
              <a:t> they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r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(indicates location or used as expletiv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Exampl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y’r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 really nice coupl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i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dog is very laz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r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re no paper towels lef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781680" cy="10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rammatical Agreemen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6705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mmatical disagreement occurs when the words within a sentence do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ork well together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ronoun should match the antecedent/subjec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7a2c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a2c"/>
                </a:solidFill>
                <a:latin typeface="Verdana"/>
              </a:rPr>
              <a:t>Incorrect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team ru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up the hil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7f2e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Correct</a:t>
            </a:r>
            <a:r>
              <a:rPr b="0" lang="en-US" sz="2000" spc="-1" strike="noStrike">
                <a:solidFill>
                  <a:srgbClr val="ff7f2e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team run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up the hil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7f2e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Incorrect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company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an out of money, so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they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ent out of busines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7f2e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Correct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company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an out of money, so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it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ent out of business.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Incorrect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f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student pay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ttle attention in class,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they won’t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rove their  score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Correct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students pay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ttle attention in class,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they </a:t>
            </a:r>
            <a:r>
              <a:rPr b="0" lang="en-US" sz="2000" spc="-1" strike="noStrike">
                <a:solidFill>
                  <a:srgbClr val="99090e"/>
                </a:solidFill>
                <a:latin typeface="Verdana"/>
              </a:rPr>
              <a:t>w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on’t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rove their score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r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Correct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a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student pay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ttle attention in class,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he or she won’t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rove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his or her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cor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67820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erb Ten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47920" y="3657600"/>
            <a:ext cx="35049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e want you to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searc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, identify, and eliminate incorrect answer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81480" y="3657240"/>
            <a:ext cx="3353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 No Chan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. be search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. have search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. search f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990720" y="1752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dealing with lists of verbs, make sure that the verbs are of the </a:t>
            </a:r>
            <a:r>
              <a:rPr b="1" lang="en-US" sz="2400" spc="-1" strike="noStrike">
                <a:solidFill>
                  <a:srgbClr val="99090e"/>
                </a:solidFill>
                <a:latin typeface="Arial"/>
              </a:rPr>
              <a:t>same tense and consisten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t may  be helpful to remove the other verbs from the list to help eliminate wrong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nglish Guessing Strateg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2640" y="22093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do I do if I have absolutely no idea what is going on in a certain question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ry the famous GOSH strategy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this strategy only for the English portion of the AC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5" descr="Photo 4"/>
          <p:cNvPicPr/>
          <p:nvPr/>
        </p:nvPicPr>
        <p:blipFill>
          <a:blip r:embed="rId2"/>
          <a:stretch/>
        </p:blipFill>
        <p:spPr>
          <a:xfrm>
            <a:off x="6553080" y="3809880"/>
            <a:ext cx="1687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4" descr="GOSH"/>
          <p:cNvPicPr/>
          <p:nvPr/>
        </p:nvPicPr>
        <p:blipFill>
          <a:blip r:embed="rId1"/>
          <a:stretch/>
        </p:blipFill>
        <p:spPr>
          <a:xfrm>
            <a:off x="1781280" y="0"/>
            <a:ext cx="57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can you expect?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at equals 9 minutes per passag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841760" y="1765440"/>
            <a:ext cx="20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856880" y="2303640"/>
            <a:ext cx="19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Pa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830600" y="2819520"/>
            <a:ext cx="38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Questions per pa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19051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1830960" y="3352680"/>
            <a:ext cx="18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5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bject vs. Objec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nouns change when used in different cases (subject, object, or possesiv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a72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a726"/>
                </a:solidFill>
                <a:latin typeface="Verdana"/>
              </a:rPr>
              <a:t>The University of Illinois accepted Justin, Jim, and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almost sounds correct BUT it’s not.The sentence is properly writte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a72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a726"/>
                </a:solidFill>
                <a:latin typeface="Verdana"/>
              </a:rPr>
              <a:t>The University of Illinois accepted Justin, Jim, and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me</a:t>
            </a:r>
            <a:r>
              <a:rPr b="0" lang="en-US" sz="2000" spc="-1" strike="noStrike">
                <a:solidFill>
                  <a:srgbClr val="99090e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2160" y="2405160"/>
            <a:ext cx="618624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University of Illinois accepted 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University of Illinois accepted m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 it yourself.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2160" y="2405160"/>
            <a:ext cx="618624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Justin, Jim, and ____ went to the University of Illinois.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agm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omplete sentences AKA fragments are the most common sentence structure error. You will often see a sentence that is composed of only a </a:t>
            </a:r>
            <a:r>
              <a:rPr b="1" lang="en-US" sz="2400" spc="-1" strike="noStrike">
                <a:solidFill>
                  <a:srgbClr val="ff7f2e"/>
                </a:solidFill>
                <a:latin typeface="Verdana"/>
              </a:rPr>
              <a:t>dependent</a:t>
            </a:r>
            <a:r>
              <a:rPr b="0" lang="en-US" sz="2400" spc="-1" strike="noStrike">
                <a:solidFill>
                  <a:srgbClr val="ff7f2e"/>
                </a:solidFill>
                <a:latin typeface="Verdana"/>
              </a:rPr>
              <a:t> clau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can easily turn a </a:t>
            </a:r>
            <a:r>
              <a:rPr b="1" lang="en-US" sz="2400" spc="-1" strike="noStrike">
                <a:solidFill>
                  <a:srgbClr val="99090e"/>
                </a:solidFill>
                <a:latin typeface="Verdana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clause into an </a:t>
            </a:r>
            <a:r>
              <a:rPr b="1" lang="en-US" sz="2400" spc="-1" strike="noStrike">
                <a:solidFill>
                  <a:srgbClr val="99090e"/>
                </a:solidFill>
                <a:latin typeface="Verdana"/>
              </a:rPr>
              <a:t>independ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clause by removing what we call the </a:t>
            </a:r>
            <a:r>
              <a:rPr b="1" lang="en-US" sz="2400" spc="-1" strike="noStrike">
                <a:solidFill>
                  <a:srgbClr val="99090e"/>
                </a:solidFill>
                <a:latin typeface="Verdana"/>
              </a:rPr>
              <a:t>handcuff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ff7f2e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7f2e"/>
                </a:solidFill>
                <a:latin typeface="Verdana"/>
              </a:rPr>
              <a:t>Because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the dog ate a bon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^handcuff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s is a </a:t>
            </a:r>
            <a:r>
              <a:rPr b="1" lang="en-US" sz="2600" spc="-1" strike="noStrike">
                <a:solidFill>
                  <a:srgbClr val="ff7f2e"/>
                </a:solidFill>
                <a:latin typeface="Verdana"/>
              </a:rPr>
              <a:t>frag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dog ate a bon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s </a:t>
            </a:r>
            <a:r>
              <a:rPr b="0" lang="en-US" sz="2600" spc="-1" strike="noStrike">
                <a:solidFill>
                  <a:srgbClr val="ff7f2e"/>
                </a:solidFill>
                <a:latin typeface="Verdana"/>
              </a:rPr>
              <a:t>is grammatically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correc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TIP: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 If a sentence seems incomplete, it is potentially a fragment.  The answer choices often contain handcuffs, commas or semicolons in different location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Line 5"/>
          <p:cNvSpPr/>
          <p:nvPr/>
        </p:nvSpPr>
        <p:spPr>
          <a:xfrm flipV="1">
            <a:off x="2209680" y="24379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a Spli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ヒラギノ角ゴ Pro W3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ヒラギノ角ゴ Pro W3"/>
              </a:rPr>
              <a:t>_x0001_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comma splice attempts to use the following combin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Independent (comma) Independent (period)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90e"/>
                </a:solidFill>
                <a:latin typeface="Verdana"/>
              </a:rPr>
              <a:t>EX: The dog ate his homework, Joe failed the assignme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is not a legal combo because it is missing a conjuction (and, or, or bu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un-O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ff7f2e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7f2e"/>
                </a:solidFill>
                <a:latin typeface="Verdana"/>
              </a:rPr>
              <a:t>Run-on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sentences are the same as comma splices without the comma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99090e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90e"/>
                </a:solidFill>
                <a:latin typeface="Verdana"/>
              </a:rPr>
              <a:t>EX: The dog ate his homework Joe failed the assignmen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TIP: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  If a sentence seems excessively long, it is potentially a run-on or comma splice.  The answer choices often contain commas or semicolons in different location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splaced Modifi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7f2e"/>
                </a:solidFill>
                <a:latin typeface="Verdana"/>
              </a:rPr>
              <a:t>misplaced modifi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is a modifying phrase or word that has wandered too far away from what it is supposed to be modifying, leaving it confus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99090e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90e"/>
                </a:solidFill>
                <a:latin typeface="Verdana"/>
              </a:rPr>
              <a:t>Adam bought ice cream for his students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with chocolate sprinkl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 the students have chocolate sprinkles or does the ice cream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7f2e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f2e"/>
                </a:solidFill>
                <a:latin typeface="Verdana"/>
              </a:rPr>
              <a:t>Correctly Sta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am bought ice cream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with chocolate sprinkl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his student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TIP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Misplaced modifier questions are the only usage/mechanics questions that frequently appear in a format other than the “NO CHANGE” format.  They may ask, “The best placement for the underlined portion would be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elpful Hints for During the Ex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t up Stra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ax and Breat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ke Advantage of the Bre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oncep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14400" y="152352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nctu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omma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postroph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ol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arenthesis and Dash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omb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mmar and U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Grammatical Agreem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Verb Ten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ronoun Form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Modifier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diom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059200" y="1371600"/>
            <a:ext cx="42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age and Mechan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952880" y="25909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648320" y="2514600"/>
            <a:ext cx="331128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enc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entence Frag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Run-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mma Spl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isplaces Modif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hifts in 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elpful Hints for Before the Ex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t We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t Something……Healt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ress in Lay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n’t Fre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En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THE+END"/>
          <p:cNvPicPr/>
          <p:nvPr/>
        </p:nvPicPr>
        <p:blipFill>
          <a:blip r:embed="rId2"/>
          <a:stretch/>
        </p:blipFill>
        <p:spPr>
          <a:xfrm>
            <a:off x="1612800" y="1998720"/>
            <a:ext cx="59184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oncepts Continued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907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hetorical Ski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rateg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y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nsi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usage and mechanics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age/Mechanics problems test how well you can construct a functional sentence using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rules of punctu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gramma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entence structure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usage and mechanics?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inu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2640" y="29718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 1/2 of the problems in the English Test are Usage/Mechanics problems. Therefore, every rule that you learn is another tool in your toolbox that will help you solve more Usage/Mechanics problems and ultimately increase your English scor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mas, Commas, and more Comma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680" y="2209320"/>
            <a:ext cx="7010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nctuation marks are used for more than sideways faces. ;) This next section will teach you the formal rules of punctuation that frequently appear on the ACT English test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i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answer choices will have the same set of words with punctuation marks (sometimes different) in varying locations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mas, Commas, and more Comma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286000"/>
            <a:ext cx="6705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as are meant to create natural pauses in a sentence. When used improperly (i.e. misplaced, too many, or not enough) commas disrupt the flow of the sentence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ommas are the most frequently tested punctuation on the ACT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4:17:49Z</dcterms:created>
  <dc:creator>Buffalo Grove High School</dc:creator>
  <dc:description/>
  <dc:language>en-US</dc:language>
  <cp:lastModifiedBy>Administrator</cp:lastModifiedBy>
  <dcterms:modified xsi:type="dcterms:W3CDTF">2011-02-22T20:48:04Z</dcterms:modified>
  <cp:revision>36</cp:revision>
  <dc:subject/>
  <dc:title>ACT English </dc:title>
</cp:coreProperties>
</file>